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F6C-3E6D-44BD-A658-FF1254D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9BB-9742-48F1-944F-2766391C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454-EC3E-4F1A-B4C2-5E56835C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0B8-5B75-4674-BD50-8ECE2F96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395D0-C494-4B08-BED0-02F7B906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333AD-84C1-4065-8B73-35D8819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13952-BE8C-43C6-BBD5-87E311A6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3037-F0D2-4626-82CD-665F222F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2EEE4-C876-4807-AC97-2DED0F97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31BA3-0256-484F-A5A9-43F4A53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FD679-677E-4CBA-94BD-CE01A85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F5D-3521-4DE3-8B1F-5C6224CE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D6F5C-C6BB-4EFC-BBDC-0B7A8BA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1EECA-D894-4173-9925-4C6E940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8434-025B-4DCC-BD3E-A7256CF4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CB958-34C3-46D9-9AF2-A506280B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40FF9-86F8-463B-8397-BCEFBBC0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929-86FB-45D3-87A5-0BB07C4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71D-2217-4B9F-B838-7895A364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A86-BCA8-408A-BADA-4589509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5E2-C03C-4960-B1B3-36CD672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952-3CFB-47A3-9A87-5B84F801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31E-6211-4653-915C-9E7DB984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FE9-C64E-426D-95D5-6067776F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B8DA-F12A-4BD2-B08D-27C1BC62A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661-2A27-4E1F-953B-11B12EEB3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lurtit.com/var/group/images/g/g9/g96/g963/featured_g963895_anole.jpg&amp;imgrefurl=http://www.blurtit.com/groups/The_Lizard_Family&amp;h=400&amp;w=400&amp;sz=80&amp;hl=en&amp;start=109&amp;tbnid=z23w0eAszWUT9M:&amp;tbnh=124&amp;tbnw=124&amp;prev=/images%3Fq%3Danoles%26start%3D100%26gbv%3D2%26ndsp%3D20%26hl%3Den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he-lizard-lounge.com/content/gallery/lizard-pictures/green-anole-pictures/green-anole-01.jpg&amp;imgrefurl=http://www.the-lizard-lounge.com/content/gallery/lizard-pictures/green-anole-pictures-1.asp&amp;h=314&amp;w=400&amp;sz=116&amp;hl=en&amp;start=1&amp;tbnid=qvN3pyeNSFuzgM:&amp;tbnh=97&amp;tbnw=124&amp;prev=/images%3Fq%3DANOLE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altgrassflats.com/images/green_anole_green_01a_smithoaks_040502.jpg&amp;imgrefurl=http://www.saltgrassflats.com/wildlife/green_anole.html&amp;h=284&amp;w=381&amp;sz=24&amp;hl=en&amp;start=5&amp;tbnid=CIHfL7cCHiR_iM:&amp;tbnh=92&amp;tbnw=123&amp;prev=/images%3Fq%3DANOLE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rs.gov/general/pubs/ERsum/er06/images/anole.jpg&amp;imgrefurl=http://www.srs.gov/general/pubs/ERsum/er06/index.html&amp;h=400&amp;w=400&amp;sz=14&amp;hl=en&amp;start=12&amp;tbnid=sdjgfS5k9cmLCM:&amp;tbnh=124&amp;tbnw=124&amp;prev=/images%3Fq%3DANOLE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pclipart.com/animals/A/Anole_eating.png&amp;imgrefurl=http://www.wpclipart.com/animals/A/&amp;h=451&amp;w=492&amp;sz=143&amp;hl=en&amp;start=11&amp;tbnid=jElGuYd-yU2FwM:&amp;tbnh=119&amp;tbnw=130&amp;prev=/images%3Fq%3DANOLE%26gbv%3D2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reptiledepot.com/pics/anole.jpg&amp;imgrefurl=http://www.reptiledepot.com/lizards.html&amp;h=225&amp;w=300&amp;sz=14&amp;hl=en&amp;start=166&amp;tbnid=aeVbkjmy3AfWwM:&amp;tbnh=87&amp;tbnw=116&amp;prev=/images%3Fq%3Danoles%26start%3D160%26gbv%3D2%26ndsp%3D20%26hl%3Den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z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Skyler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4419720"/>
            <a:ext cx="27050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zards are cool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zards protect themselves by their scales on their bod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286000"/>
            <a:ext cx="7391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ir body help them be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les are pretty, but don’t rip them off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can’t change body temp. by themselv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ove to warm places or cold places. They live in warm climates or cold clim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3581280"/>
            <a:ext cx="33912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hibernate too. It’s so amazing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leep during the day. They’re awake during the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971800"/>
            <a:ext cx="3371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can grow to be 1.6in,-9.9ft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uch as the Komodo dragon are big and long. Some such as the anole aren’t that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3886200"/>
            <a:ext cx="2400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ope you enjoyed learning about lizards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09:51Z</dcterms:modified>
  <cp:revision>4</cp:revision>
  <dc:subject/>
  <dc:title>Animal Name</dc:title>
</cp:coreProperties>
</file>